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B74-3939-4C94-ABA1-BA91F28D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EDF-429B-46AA-952B-3E894A5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618-C814-425F-A1B0-90ADA3D9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E5F-8A67-4AC6-A0D2-7C0912FF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ACC-ED7C-4C31-888C-5DD3E87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880-A395-411B-A971-84F6817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799-5DF0-4838-9857-39205F5D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070-C1BC-4C0E-B7D0-40CFC96D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A69-44AC-4F9D-AA11-B3A848F4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8DF-0EAF-4C9D-ABCA-04E51FC3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A7F-590A-4D33-9443-1D34413B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E8C-1E40-4529-B6D1-281D2C9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A98D-6154-4578-8E30-880E833C7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: Onof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ome: Del G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olo: Marc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zione: Ness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ese del Gr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tazione:” Quanno se scherza, bisogna esse se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94200" y="1600200"/>
            <a:ext cx="354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7:32:35Z</dcterms:created>
  <dc:creator>Biblioteca di Latino</dc:creator>
  <dc:description/>
  <dc:language>en-US</dc:language>
  <cp:lastModifiedBy>Biblioteca di Latino</cp:lastModifiedBy>
  <dcterms:modified xsi:type="dcterms:W3CDTF">2008-07-16T07:57:03Z</dcterms:modified>
  <cp:revision>3</cp:revision>
  <dc:subject/>
  <dc:title>Marchese del grillo</dc:title>
</cp:coreProperties>
</file>