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539-051D-441C-9712-BE97CB81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4A79-C26B-4BC7-85C6-757D0AC0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F166-F319-4900-97A7-91C97C18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641-4025-481F-A6B8-B128E9EB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EA47-E493-4F55-8A79-2C1D029F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E4D-156D-4582-81BB-D7872DA1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26A-D344-4F83-8AE1-74074494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A850-3915-447F-BF35-A6763862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65D-DA49-427D-B4DC-5D9F1E6C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82E-6D5B-44D1-BBB5-F1F32A37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608C-8CD7-4CC0-82E0-2489693D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853D-765E-4378-92A6-DEDECC99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5515-B845-4FAA-9E8D-E8854347D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chese del Gr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b1f1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e: Onof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ome:  Del G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olo: Marc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pazione: ness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94200" y="1600200"/>
            <a:ext cx="35449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chese del Gr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b1f1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azione: “Quando se scherza bisogna esse seri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94200" y="1600200"/>
            <a:ext cx="35449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7:47:31Z</dcterms:created>
  <dc:creator>Aglaia</dc:creator>
  <dc:description/>
  <dc:language>en-US</dc:language>
  <cp:lastModifiedBy>Aglaia</cp:lastModifiedBy>
  <dcterms:modified xsi:type="dcterms:W3CDTF">2008-07-16T09:14:45Z</dcterms:modified>
  <cp:revision>4</cp:revision>
  <dc:subject/>
  <dc:title>Diapositiva 1</dc:title>
</cp:coreProperties>
</file>